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277E-613D-403D-9055-AA48686FE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21DE-8607-4A87-B370-78139AD5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367-5B94-4BAB-B109-4F8C6501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40F-A7F0-4564-90E1-6E20F69F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968-B018-42A7-82F6-70B1D2D0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5EA-9D5C-41A4-BF18-39B805E7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822-CB22-40C3-936B-9CEEB056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DCA-B0EE-4FCD-B742-FD31DCF2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655-7977-42E8-AEB6-6972594C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072-41BB-42F2-8924-B8B06144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EB2-6246-4B59-BC82-57E854EA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CEC-0B55-4669-A2BB-7C245A00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52F-259B-43E9-8AE2-B2DA3981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F2E-E253-42D0-B0E4-F22CE4B3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CC82-AB5B-48B5-8D50-83A74F5CA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4 Apart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assified people in one of two r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created by French sett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luded the creation of “homela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till in place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d the support of most European count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4 Apart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assified people in one of two r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created by French sett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Included the creation of “homela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till in place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d the support of most European count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7_10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5 In the 1920s, this region best exemplified the concept of the nation-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5 In the 1920s, this region best exemplified the concept of the nation-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6 Which of the following is the best example of a multinational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former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6 Which of the following is the best example of a multinational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The former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7 In which of the following decades was nationalism most evident i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7 In which of the following decades was nationalism most evident i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8 Which of the following ethnic groups has the least representation in Leban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r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1 African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8 Which of the following ethnic groups has the least representation in Leban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r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7_15"/>
          <p:cNvPicPr/>
          <p:nvPr/>
        </p:nvPicPr>
        <p:blipFill>
          <a:blip r:embed="rId1"/>
          <a:stretch/>
        </p:blipFill>
        <p:spPr>
          <a:xfrm>
            <a:off x="2362320" y="60948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9 The basic glue holding Yugoslavia together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c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io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essure from the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9 The basic glue holding Yugoslavia together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Econom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io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essure from the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10 Since 1991 in the Balkans, the most severe ethnic cleansing has been commit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r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os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acedon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love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10 Since 1991 in the Balkans, the most severe ethnic cleansing has been commit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r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os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acedon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love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1 African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7_01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2 Hispanic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2 Hispanic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7_02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3 The most likely destination for African slaves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3 The most likely destination for African slaves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2:54:34Z</dcterms:modified>
  <cp:revision>85</cp:revision>
  <dc:subject/>
  <dc:title>CRS Chapter 4</dc:title>
</cp:coreProperties>
</file>